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E44-419E-44D1-91E4-8BE425A8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247-DE7C-4D9B-B148-D8AB5267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19F-1B22-429A-8D30-066022F1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4B4-8D43-4B39-BA21-E198CFF4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C30-8505-4581-888F-50D0DBFC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ED3-0751-4166-9862-448CA8C9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D6C-D9CE-4785-BD78-612C5B74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6A9-2DB3-4655-94A0-111D8D77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893-0568-40D7-B506-1ADE5DEE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848-C7BF-4084-822D-8D9B790E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E4B-9DEA-42F5-B470-4C169468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C04-11D6-4B4E-8085-DE5C1AC6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AD70-96A8-4BBF-B1CD-4FE94FA0B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9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10400" y="320292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АНАЛИЗА КЛИНИЧКЕ ОДЛУК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КЛИНИЧКА ОДЛУК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1442880" y="2131920"/>
          <a:ext cx="6258240" cy="34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131920"/>
                    <a:ext cx="62582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Поступак доношења клиничке одлук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На крајевима грана (код петоуглова) треба прво ставити оцену коју пацијент придаје таквом исходу: највећа оцена је 1, а најмања 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дан би било савршено здравље, а 0 смр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ваки исход постоји одређена вероватноћа, коју треба знати из клиничког искуства или, боље, из клиничке лит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ваки исход затим треба помножити вероватноћу са оценом пациј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ијене бројке треба сабрати за све гране које излазе из једног кру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Ако постоји више нивоа грањ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поступак се понавља на сваком нив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Када доносимо одлуку на месту где се налази квадр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онда се руководимо вредностима добијеним за сваки круг који потиче из тог квадр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валидни резултати анализе клиничке одлук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укључене све важне клиничке стратегије и исхо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вероватноће добро утврђ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оцене које би пацијент дао за исходе добро утврђе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испитана осетљивост урађене анализе?(тј. да ли је испитан утицај клинички смислених варијација у вероватноћама и оценама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анализе клиничке одлуке значајни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постоји клинички значајна разлика између терапијских или дијагностичких алтернати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ће одређени избор терапије или дијагностике и даље бити бољи, ако дође до значајних промена у вероватноћама или оценама исх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анализе клиничке одлуке могу применити на нашем пацијенту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вероватноће важе за нашег пацијен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оцене исхода вашег пацијента и оне публиковане у анализи клиничке одлуке сличне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kett, David L. et al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-Based Medicine: How to Practice and Teach EBM.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ed. New York: Churchill Livingstone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us SE, Richardson WS, Glasziou P, Haynes RB. Evidence-based Medicine.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dition, Elsevier,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8:35Z</dcterms:modified>
  <cp:revision>59</cp:revision>
  <dc:subject/>
  <dc:title>Slide 1</dc:title>
</cp:coreProperties>
</file>